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CBD-CBE3-46CF-9F12-A9626FC4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5F4-4F49-4D4F-B8CC-42CF5576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CDA-0EA3-4FC0-A4DE-DC844EA9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04B-DE61-4108-A9AD-82AACBE5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217-7599-497E-B686-EBAD219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E95-199D-495A-9978-3FBA77E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DA3-D80A-4BF0-8679-46BDCBF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2C8-C656-4E70-B556-B0CB30D8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479-DF0D-44E1-A7B7-165D24E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DCE-4650-4822-B870-64D1D77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CB1-3E79-4BA8-85CD-E97BC07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446-9B9A-4614-806E-A631493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148C-A965-4166-93A5-686DDA66B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a.org/science_resources/datasharing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atadryad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ical Society of 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haring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 Wilson, on behalf of Cliff D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a.org/science_resources/datasharing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ed from a “Society Summit” in 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workshops, starting in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s to 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s for 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A enabling “Data Paper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ers in ESA journals must publish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persistent arch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yad Data project: 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atadryad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SF funded project, led by NESC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DSpa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getting the data, less on data cu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accept most any format, including Ex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secure repository and persistent identif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many ways, US leads; huge variations across international sc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technical, mostly soc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ers rewarded for papers, not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ring data has short-term disincen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s time, others could sco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s can find mistak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wnership and intellectual proper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sitive data (human subjects, T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ambitious archive schemes (how much metadata is enough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8:06:57Z</dcterms:created>
  <dc:creator>Bruce E. Wilson</dc:creator>
  <dc:description/>
  <dc:language>en-US</dc:language>
  <cp:lastModifiedBy>Bruce E. Wilson</cp:lastModifiedBy>
  <dcterms:modified xsi:type="dcterms:W3CDTF">2009-07-08T18:49:06Z</dcterms:modified>
  <cp:revision>8</cp:revision>
  <dc:subject/>
  <dc:title>Slide 1</dc:title>
</cp:coreProperties>
</file>